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B40D-CCB8-428C-B8D4-1DE413020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477F-E76A-4CE0-BFAA-4E0A9CDE8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FE15-FFE3-48A7-BFDD-D3AAD55B9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E4BB-5C65-4F99-BFC3-113D7705D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8CBF-1726-4427-B178-F59E26271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BC8C-7572-4CE2-96AA-1AE0B7726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9803-6BC5-4046-A8E8-CFD54BF5D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0234-6C07-4EB3-9CD9-E9979A66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DC1B-C5FD-454A-A7D7-F9B8A51B2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6876-267E-49C9-9306-D311D153B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2F01-FC45-4109-9ABE-0BB7A02F4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A264-0832-4B1E-9DC7-8838E6355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04B0-9103-48F4-80DD-4BCBAF39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9318-55CC-437E-852D-6FD1E3A9E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2921-963B-4B61-B3B2-0436FBD0B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559A-57E2-462E-9839-9A9CE359D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9FF8-52F0-486B-92F2-3778256F1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2D60-197C-4DBC-9465-7D2FB6FD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3C8C-4BE5-47DA-BEF4-DF367FE5B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74BE-7EC5-4703-922D-6BDEA7D95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3DDA-EFED-4B32-80BD-7DACEFFAA68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6BC2-615A-46CE-9591-7012E311BF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1883-12CB-4979-B377-56804AF2DF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1067-5BB0-4F5A-832F-AA1D723BCB3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0525-E3A5-4E0D-A6EF-83BAC22C10A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F851-1D9F-40B7-BB8D-11FA71628E9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E1BF-88BB-467A-9F2F-54F4E4718C6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5C20-79A9-4469-B72A-AC6AE74B2E6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1551-83A1-4951-BBF1-AD6EB6E385A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803D-4A5C-40DA-892D-D0DE8F16D1E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BC76-701F-4A03-87D3-CD04548EB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C421-9028-45B1-95A1-E1057ED9ED4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BC9E-5F9B-434B-BC98-9C7FCC2B59E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A046-F3DB-4603-AE01-2E0D43DA256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4DF2-93BD-420E-99EE-D5DB8FE1996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8C1A-34B0-42BB-87B9-33B39EC2CBE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B0C-C876-4265-98FD-25081847A6C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E09-F93A-4296-B8ED-0CBE60DCB49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F0D-F81C-4924-B540-250B48FA327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A52-1151-4821-89B8-D8CA56AB8C0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898-2927-4413-845E-8535BAFB072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5E2C-4670-4526-A4DC-BC4DB5CF5F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314-5B22-4DD7-B801-CF75D480D48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5F5-788F-42CF-A2DA-EB0015CBCD2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601-572E-4BBD-81E3-E2A94991FEF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E3E-019A-4161-BE49-7ECD69DC410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3F2-894A-4A9A-AFB0-16895A897FFB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FB8-920A-4EB3-8EB2-35BF0A659824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C9F-82B4-4F67-98DF-42BD017BF2C5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59F8-CE57-48C7-9461-4385C8F2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A99C-6FB4-4931-B5E0-96A5C85C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ACB0-AC92-425A-82CE-F6B18BEE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36C5-9E8A-4F2D-B57B-1403697490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F9EA-00E6-42F4-9BB8-4E3CE2A4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0145-EFB1-4052-BE0B-7CE60007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A74E-9E51-440C-88DF-CA0E595B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5827-0075-42D9-8D07-B21B19AF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84EA-E6FB-492E-B7CB-5DF8D816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C622-0E6F-4673-A002-58927EED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6786-16F9-4C47-94F4-6028B2E0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4E21-5D37-4EDC-A1D8-36281A2A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B4D7-BEA8-4C51-86C6-80CDF01D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011D-1C0E-4E2A-8880-B56BF52E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8BF8-573D-490F-B8DE-696C4C776D1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51B2E-0617-46E5-8421-8A2B5858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C75B-1CD0-42FD-86FD-7FEB697E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1DB8-3730-4018-BDE0-41CC899C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95D74-20B9-4D39-8DD0-33D2C560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15B08-C62D-48A6-B1DC-EA01D105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1F7B-D930-4364-9A02-45E13D1D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4061-633B-4BCF-AACD-E8316249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03950-B345-4B26-84A4-CE3599F3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1514-5ED4-4832-B729-998E21D2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B6F20-456D-4D21-BD46-BF4E5F78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0395-7AEC-4B0C-805B-5DE76B4ACD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889BF-1913-4CC2-8811-BAAEB61C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0A1AE-887C-42A9-A852-7C670B59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2428-FCC7-425B-A72E-48FA17EC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C005-F32A-4813-B234-4F22C5E0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06783-BFD1-48CF-8D1E-EF2C72E6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F388F-BD21-42D1-A2E4-09524FE2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3CCF0-E757-4E0A-A197-132D1E26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DF193-BB72-4CD4-B7A2-CC85A60C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9E924-1EA4-47C8-ADCB-A657346B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B5FF9-EDA6-404C-AF13-6FA6FD8E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00CB-3AA8-4172-BF3A-86CD7A5B9DC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0A6BB-6286-4ADB-803A-BAF7A4D9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15DD-26F7-4DF9-9F65-817AF718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E9C87-B8D8-47C1-A46D-2DE1A89A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293A-9884-45D6-8CDA-61DBB10D467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9F7B-74D8-4026-A0BF-894CAA93679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6252-C24E-448B-87AA-45979B4F53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7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9BCD-1B99-45E7-AE79-7B273C8E2A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1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6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0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9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4FF1-9633-4BB1-8D06-755E57BF22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77D2-4FC5-48DE-8477-9741BF886C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B5A2-30A3-4747-AFA1-67A28CEBAB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B9C2-66A4-4E5B-81DF-46DF9D0478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Rectangle 7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3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59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ditional classification for calculating and reporting sales ta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signed to each product or service item, as well as to each custom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les Tax Codes serve two purpo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dicate whether a specific product or service is taxable or non-tax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tegorize revenue based on the reason you charged or didn’t charge sales tax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4" descr="C:\Users\DPEMBR~1\AppData\Local\Temp\SNAGHTML187e289.PNG"/>
          <p:cNvPicPr/>
          <p:nvPr/>
        </p:nvPicPr>
        <p:blipFill>
          <a:blip r:embed="rId2"/>
          <a:stretch/>
        </p:blipFill>
        <p:spPr>
          <a:xfrm>
            <a:off x="1622520" y="1600200"/>
            <a:ext cx="5898960" cy="4572000"/>
          </a:xfrm>
          <a:prstGeom prst="rect">
            <a:avLst/>
          </a:prstGeom>
          <a:ln w="0">
            <a:noFill/>
          </a:ln>
        </p:spPr>
      </p:pic>
      <p:sp>
        <p:nvSpPr>
          <p:cNvPr id="1361" name="Oval 19"/>
          <p:cNvSpPr/>
          <p:nvPr/>
        </p:nvSpPr>
        <p:spPr>
          <a:xfrm>
            <a:off x="3733920" y="5334120"/>
            <a:ext cx="190476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 txBox="1"/>
          <p:nvPr/>
        </p:nvSpPr>
        <p:spPr>
          <a:xfrm>
            <a:off x="456840" y="16765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 set up a Sales Tax Co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List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menu select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ales Tax Cod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Li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from th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Sales Tax Cod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menu at the bottom of the li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nter three characte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Sales Tax cod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nd descrip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ach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Sales Tax Cod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has a taxable or non-taxable statu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64" name="Picture 5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700440" cy="175248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5" descr="C:\Users\DPEMBR~1\AppData\Local\Temp\SNAGHTML15725457.PNG"/>
          <p:cNvPicPr/>
          <p:nvPr/>
        </p:nvPicPr>
        <p:blipFill>
          <a:blip r:embed="rId3"/>
          <a:stretch/>
        </p:blipFill>
        <p:spPr>
          <a:xfrm>
            <a:off x="5278320" y="3962520"/>
            <a:ext cx="3649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 txBox="1"/>
          <p:nvPr/>
        </p:nvSpPr>
        <p:spPr>
          <a:xfrm>
            <a:off x="456840" y="167652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ales Tax Cod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Customer in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dditional Informat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ab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aul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Tax Co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sales f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68" name="Picture 5" descr=""/>
          <p:cNvPicPr/>
          <p:nvPr/>
        </p:nvPicPr>
        <p:blipFill>
          <a:blip r:embed="rId2"/>
          <a:stretch/>
        </p:blipFill>
        <p:spPr>
          <a:xfrm>
            <a:off x="3886200" y="2014560"/>
            <a:ext cx="48974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automatically calculates and tracks sales tax on each sa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1" name="Picture 5" descr=""/>
          <p:cNvPicPr/>
          <p:nvPr/>
        </p:nvPicPr>
        <p:blipFill>
          <a:blip r:embed="rId2"/>
          <a:stretch/>
        </p:blipFill>
        <p:spPr>
          <a:xfrm>
            <a:off x="298440" y="2743200"/>
            <a:ext cx="8547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552160" cy="1170000"/>
          </a:xfrm>
          <a:prstGeom prst="rect">
            <a:avLst/>
          </a:prstGeom>
          <a:ln w="0">
            <a:noFill/>
          </a:ln>
        </p:spPr>
      </p:pic>
      <p:sp>
        <p:nvSpPr>
          <p:cNvPr id="1373" name=""/>
          <p:cNvSpPr txBox="1"/>
          <p:nvPr/>
        </p:nvSpPr>
        <p:spPr>
          <a:xfrm>
            <a:off x="457200" y="167652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hows sales to each customer over a given date rang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port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menu, then selec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ale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and then selec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ales by Customer Summar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4" name="Picture 4" descr="C:\Users\DPEMBR~1\AppData\Local\Temp\SNAGHTML15884e8d.PNG"/>
          <p:cNvPicPr/>
          <p:nvPr/>
        </p:nvPicPr>
        <p:blipFill>
          <a:blip r:embed="rId2"/>
          <a:stretch/>
        </p:blipFill>
        <p:spPr>
          <a:xfrm>
            <a:off x="3962520" y="1828800"/>
            <a:ext cx="48686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76" name=""/>
          <p:cNvSpPr txBox="1"/>
          <p:nvPr/>
        </p:nvSpPr>
        <p:spPr>
          <a:xfrm>
            <a:off x="456840" y="1676160"/>
            <a:ext cx="33526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hows sales of each Item over a given date r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ports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nu, then selec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ale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and then selec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ales by Item Summar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7" name="Picture 4" descr="C:\Users\DPEMBR~1\AppData\Local\Temp\SNAGHTML1086933.PNG"/>
          <p:cNvPicPr/>
          <p:nvPr/>
        </p:nvPicPr>
        <p:blipFill>
          <a:blip r:embed="rId2"/>
          <a:stretch/>
        </p:blipFill>
        <p:spPr>
          <a:xfrm>
            <a:off x="3733920" y="2039760"/>
            <a:ext cx="51051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cess customer returns and cred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off customer invoices (record bad debt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customer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ect sales ta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sales repo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cess customer returns and cred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off customer invoices (record bad debt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customer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ect sales ta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sales repo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Credit Memos in following situa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ncel an order that has been invoic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turned merchandi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redit-on-account for a custom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funding a custom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ers menu &gt; Create Credit Memos/Refu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fund to a customer when a custom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turns merchandise after pay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quests a discount or refund on paid merchandise or servic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verpays their Invoice and requests a refu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customer paid with cash or check, issue a refund che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customer paid with a credit card, credit the customer’s credit ca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 txBox="1"/>
          <p:nvPr/>
        </p:nvSpPr>
        <p:spPr>
          <a:xfrm>
            <a:off x="304560" y="17524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 Credit memo, click Use Credit To and choose Give Refu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ssue a Refund window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formation filled i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s refund check in the checking account and records the Credit Mem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40" name="Picture 5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2241720" cy="170208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5" descr="C:\Users\DPEMBR~1\AppData\Local\Temp\SNAGHTMLf12762.PNG"/>
          <p:cNvPicPr/>
          <p:nvPr/>
        </p:nvPicPr>
        <p:blipFill>
          <a:blip r:embed="rId3"/>
          <a:stretch/>
        </p:blipFill>
        <p:spPr>
          <a:xfrm>
            <a:off x="4726080" y="3581280"/>
            <a:ext cx="3855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 txBox="1"/>
          <p:nvPr/>
        </p:nvSpPr>
        <p:spPr>
          <a:xfrm>
            <a:off x="456840" y="167652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te off uncollectible invoices with a credit mem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d Debt Ite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ad Debt is an Other Charge Item linked to Bad Debts expen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44" name="Picture 4" descr="C:\Users\DPEMBR~1\AppData\Local\Temp\SNAGHTML14eb6007.PNG"/>
          <p:cNvPicPr/>
          <p:nvPr/>
        </p:nvPicPr>
        <p:blipFill>
          <a:blip r:embed="rId2"/>
          <a:stretch/>
        </p:blipFill>
        <p:spPr>
          <a:xfrm>
            <a:off x="3505320" y="1828800"/>
            <a:ext cx="53625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 txBox="1"/>
          <p:nvPr/>
        </p:nvSpPr>
        <p:spPr>
          <a:xfrm>
            <a:off x="45720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er statements provide a summary of the activity for an accounts receivable customer during the period you specif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47" name="Picture 4" descr="C:\Users\DPEMBR~1\AppData\Local\Temp\SNAGHTMLff5ef6.PNG"/>
          <p:cNvPicPr/>
          <p:nvPr/>
        </p:nvPicPr>
        <p:blipFill>
          <a:blip r:embed="rId2"/>
          <a:stretch/>
        </p:blipFill>
        <p:spPr>
          <a:xfrm>
            <a:off x="4032360" y="1752480"/>
            <a:ext cx="4790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4" descr="C:\Users\DPEMBR~1\AppData\Local\Temp\SNAGHTML1527979c.PNG"/>
          <p:cNvPicPr/>
          <p:nvPr/>
        </p:nvPicPr>
        <p:blipFill>
          <a:blip r:embed="rId2"/>
          <a:stretch/>
        </p:blipFill>
        <p:spPr>
          <a:xfrm>
            <a:off x="1247760" y="1725480"/>
            <a:ext cx="3324240" cy="338940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5" descr="C:\Users\DPEMBR~1\AppData\Local\Temp\SNAGHTML1529505f.PNG"/>
          <p:cNvPicPr/>
          <p:nvPr/>
        </p:nvPicPr>
        <p:blipFill>
          <a:blip r:embed="rId3"/>
          <a:stretch/>
        </p:blipFill>
        <p:spPr>
          <a:xfrm>
            <a:off x="3352680" y="2743200"/>
            <a:ext cx="5121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Picture 5" descr="C:\Users\DPEMBR~1\AppData\Local\Temp\SNAGHTML152e0e60.PNG"/>
          <p:cNvPicPr/>
          <p:nvPr/>
        </p:nvPicPr>
        <p:blipFill>
          <a:blip r:embed="rId1"/>
          <a:stretch/>
        </p:blipFill>
        <p:spPr>
          <a:xfrm>
            <a:off x="3562200" y="1494000"/>
            <a:ext cx="5310360" cy="4144680"/>
          </a:xfrm>
          <a:prstGeom prst="rect">
            <a:avLst/>
          </a:prstGeom>
          <a:ln w="0">
            <a:noFill/>
          </a:ln>
        </p:spPr>
      </p:pic>
      <p:pic>
        <p:nvPicPr>
          <p:cNvPr id="1352" name="Rectangle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 txBox="1"/>
          <p:nvPr/>
        </p:nvSpPr>
        <p:spPr>
          <a:xfrm>
            <a:off x="456840" y="167652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ales Tax Item calculates the tax for the sa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4" name="Oval 13"/>
          <p:cNvSpPr/>
          <p:nvPr/>
        </p:nvSpPr>
        <p:spPr>
          <a:xfrm>
            <a:off x="5410080" y="3962520"/>
            <a:ext cx="228600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4:50:53Z</dcterms:modified>
  <cp:revision>202</cp:revision>
  <dc:subject/>
  <dc:title>Chapter 2 Managing Revenue</dc:title>
</cp:coreProperties>
</file>